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836-98EC-4990-AE19-8AE865EE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7AC-710C-4F7A-8BC6-0B9264FC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51F-BF15-4A27-90DF-0350489B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D01-26BC-49C4-9807-3AFE58AF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16D-F85C-4FC2-BFC9-C3EC166B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431B-5F4D-4CD9-B046-5EFDA053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292-5235-47BC-8CD8-83A22C9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1DB3-7AD3-47C0-83D9-1F73D37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67E-7455-43BB-BA39-65C8D30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71F-A8A3-4BAF-8071-ED48DCB0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A793-F894-4653-B7B9-80CA041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94E-AF75-4FF0-95E3-6D571CE6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CBBB-3DC9-4867-BA81-A9BF917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1102-FD65-4243-9CB8-4A1B6BF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9E74-A7AA-4E53-A260-8B4F081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D5A-B450-4947-87ED-6794AB8A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5212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065840"/>
            <a:ext cx="252720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3A3-D321-4AE7-8EFF-92F68229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170-FB4D-4A77-AD76-C21F2030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83B-6417-41E9-B284-6F810F2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FFA-A792-4889-BF86-F4EEA3F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77E-FB54-4873-8D87-8F22421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768-B386-420C-A396-14B2AD4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6584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4FA-FDED-4A95-A151-C26C41F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752120"/>
            <a:ext cx="383004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848720" cy="21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71E-3871-4DA5-8E25-C14150C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A8C-FF45-4B34-9018-1E4BEBA9F6F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89E6-DB1B-45F5-90A1-88E23D797D75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371600"/>
            <a:ext cx="746748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halkboard Bold"/>
              </a:rPr>
              <a:t>First things to do in an emergency!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halkboard Bold"/>
              <a:ea typeface="Chalkboard Bol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8120" y="4038480"/>
            <a:ext cx="327636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halkboard Bold"/>
              </a:rPr>
              <a:t>By: Kaylo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halkboard Bold"/>
              <a:ea typeface="Chalkboard Bol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527200" cy="1509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Recognize that an emergency exis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Decide to a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Call the local emergency number for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Provide care until help arriv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00400" y="411480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778960" y="349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To be effective In an emergency you must act quickly and carefull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You can use your senses to make a difference and save a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15236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4648320"/>
            <a:ext cx="110016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114800" y="4648320"/>
            <a:ext cx="1146240" cy="146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90920" y="4800600"/>
            <a:ext cx="1309680" cy="1252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914400" y="480060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 Bold"/>
              </a:rPr>
              <a:t>Be careful with their specific injury, some emergencies may require the patient to remain still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halkboard Bold"/>
              </a:rPr>
              <a:t>First Step in an Emergency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Be careful and stay calm in case of emergency, and make sure to get the person to safet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268128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11:03Z</dcterms:created>
  <dc:creator>kms kms</dc:creator>
  <dc:description/>
  <dc:language>en-US</dc:language>
  <cp:lastModifiedBy>Kraybill Campus LMS</cp:lastModifiedBy>
  <dcterms:modified xsi:type="dcterms:W3CDTF">2011-05-26T15:51:32Z</dcterms:modified>
  <cp:revision>23</cp:revision>
  <dc:subject/>
  <dc:title>PowerPoint Presentation</dc:title>
</cp:coreProperties>
</file>